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Custom Show 1" id="0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F21-A3B4-449B-A009-72DA6A62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DAD-6C4D-450F-BF21-81B073D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BB0-4881-404C-B064-FBD3BE3C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682-46B1-47D3-953A-072EABB3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00D5-D42E-4D5A-A56A-6CDE773C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E6DB-2612-4087-AD38-DA50D812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F9F-3CD5-4EA5-8F03-4D99A79B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0E04-A175-4E4F-B3C3-229D744E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1C0D-E36C-4FCF-A199-127D0B9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910D-1905-41B8-B402-B3F2F7C3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F41F-5D57-44C5-8424-B9AE319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65D-98C1-49BC-B9A3-F504427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4D8-797D-43DB-9850-805F848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C310-616C-40A4-ACFC-9663D0E6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E1E-ABCB-4264-87F1-8207BFF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99CA-C729-450D-B14E-283227F5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11CD-96E4-4BC4-9BE3-A16447CA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997-2AA6-483B-8407-33C323E3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702-18FF-4B1A-85FA-FD9B6105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90B-B437-4673-B00F-65B70A59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4CC-4DE6-463D-9B19-98B1C538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328-6910-48E9-9F59-A6C30EE9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054-C966-40F8-8C71-D3E86E2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B4E-8FAB-4D9F-AE2A-138EB4E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D9B-E12A-4522-A31C-F5544BE021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9500-97C3-4FEE-BF5E-F1ED2625EA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imetogo.wav" TargetMode="External"/><Relationship Id="rId2" Type="http://schemas.microsoft.com/office/2007/relationships/media" Target="file:///tmp/home/.config/libreoffice/4/user/gallery/Timetog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9DF-D475-4AAC-8259-2BBCF565FD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196360" y="6858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6000" spc="-1" strike="noStrike" u="sng">
                <a:solidFill>
                  <a:srgbClr val="cc0000"/>
                </a:solidFill>
                <a:uFillTx/>
                <a:latin typeface="Comic Sans MS"/>
              </a:rPr>
              <a:t>IR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04080" y="3398760"/>
            <a:ext cx="617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el infin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hay una raí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to g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18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104-A28E-4372-9507-EAF6422222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688040" y="71280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él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2993760" y="286380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El va al colegi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8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3259080" y="4276800"/>
            <a:ext cx="2608200" cy="235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9"/>
          <p:cNvSpPr/>
          <p:nvPr/>
        </p:nvSpPr>
        <p:spPr>
          <a:xfrm>
            <a:off x="1424160" y="1981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He is going to the high scho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A7C-4BEF-43F8-B873-D3EF36A57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048"/>
          <p:cNvSpPr/>
          <p:nvPr/>
        </p:nvSpPr>
        <p:spPr>
          <a:xfrm>
            <a:off x="1688040" y="71280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Ud.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49"/>
          <p:cNvSpPr/>
          <p:nvPr/>
        </p:nvSpPr>
        <p:spPr>
          <a:xfrm>
            <a:off x="2783520" y="286380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 la fiest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052" descr="c:\Program Files\Microsoft Office\Clipart\standard\stddir1\bd07176_.wmf"/>
          <p:cNvPicPr/>
          <p:nvPr/>
        </p:nvPicPr>
        <p:blipFill>
          <a:blip r:embed="rId1"/>
          <a:stretch/>
        </p:blipFill>
        <p:spPr>
          <a:xfrm>
            <a:off x="3276720" y="4114800"/>
            <a:ext cx="2662200" cy="2500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53"/>
          <p:cNvSpPr/>
          <p:nvPr/>
        </p:nvSpPr>
        <p:spPr>
          <a:xfrm>
            <a:off x="2245680" y="190512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part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1C11-01B7-4772-B4B6-5B3111FF1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2301120" y="868320"/>
            <a:ext cx="4522680" cy="1571760"/>
            <a:chOff x="2301120" y="868320"/>
            <a:chExt cx="4522680" cy="1571760"/>
          </a:xfrm>
        </p:grpSpPr>
        <p:sp>
          <p:nvSpPr>
            <p:cNvPr id="163" name="Text Box 24"/>
            <p:cNvSpPr/>
            <p:nvPr/>
          </p:nvSpPr>
          <p:spPr>
            <a:xfrm>
              <a:off x="2419200" y="868320"/>
              <a:ext cx="4191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¿</a:t>
              </a:r>
              <a:r>
                <a:rPr b="0" i="1" lang="en-US" sz="4800" spc="-1" strike="noStrike" u="sng">
                  <a:solidFill>
                    <a:srgbClr val="cc0000"/>
                  </a:solidFill>
                  <a:uFillTx/>
                  <a:latin typeface="Comic Sans MS"/>
                </a:rPr>
                <a:t>Cómo vamos</a:t>
              </a: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301120" y="1858680"/>
              <a:ext cx="45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¿How do we get there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Text Box 29"/>
          <p:cNvSpPr/>
          <p:nvPr/>
        </p:nvSpPr>
        <p:spPr>
          <a:xfrm>
            <a:off x="1752480" y="345924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otros vamos en ca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34" descr="c:\Program Files\Microsoft Office\Clipart\smbusbas\bd10454_.wmf"/>
          <p:cNvPicPr/>
          <p:nvPr/>
        </p:nvPicPr>
        <p:blipFill>
          <a:blip r:embed="rId1"/>
          <a:stretch/>
        </p:blipFill>
        <p:spPr>
          <a:xfrm>
            <a:off x="2666880" y="4181400"/>
            <a:ext cx="3772080" cy="2371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5"/>
          <p:cNvSpPr/>
          <p:nvPr/>
        </p:nvSpPr>
        <p:spPr>
          <a:xfrm>
            <a:off x="1752480" y="2666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go by c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65E-28E3-43FC-A0F1-3C655977D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2057400" y="8524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n ello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590920" y="2925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los van en autobú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1" descr="c:\Program Files\Microsoft Office\Clipart\standard\stddir1\bd07190_.wmf"/>
          <p:cNvPicPr/>
          <p:nvPr/>
        </p:nvPicPr>
        <p:blipFill>
          <a:blip r:embed="rId1"/>
          <a:stretch/>
        </p:blipFill>
        <p:spPr>
          <a:xfrm>
            <a:off x="3052800" y="3916440"/>
            <a:ext cx="296712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259092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go by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C02B-53F9-4E3E-B3AA-4C1E3E3185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2286000" y="8524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s tú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362320" y="2895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o voy en bicicle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30" descr="c:\Program Files\Microsoft Office\Clipart\standard\stddir1\bd05655_.wmf"/>
          <p:cNvPicPr/>
          <p:nvPr/>
        </p:nvPicPr>
        <p:blipFill>
          <a:blip r:embed="rId1"/>
          <a:stretch/>
        </p:blipFill>
        <p:spPr>
          <a:xfrm>
            <a:off x="3162240" y="4044960"/>
            <a:ext cx="2857680" cy="2584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1"/>
          <p:cNvSpPr/>
          <p:nvPr/>
        </p:nvSpPr>
        <p:spPr>
          <a:xfrm>
            <a:off x="2362320" y="2057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go by bi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A9DD-3F20-4DCF-BE4B-57D8C2A7C5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Vamos a terminar ahora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c:\Program Files\Microsoft Office\Clipart\corpbas\j0079100.wmf"/>
          <p:cNvPicPr/>
          <p:nvPr/>
        </p:nvPicPr>
        <p:blipFill>
          <a:blip r:embed="rId1"/>
          <a:stretch/>
        </p:blipFill>
        <p:spPr>
          <a:xfrm>
            <a:off x="2747880" y="24382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chimes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A7BA-CA48-4110-9FBF-911F808E8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1209240" y="1017720"/>
            <a:ext cx="380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223560" y="2743200"/>
            <a:ext cx="84387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I go to the park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Yo voy al parqu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8" descr="c:\Program Files\Microsoft Office\Clipart\standard\stddir1\bd05090_.wmf"/>
          <p:cNvPicPr/>
          <p:nvPr/>
        </p:nvPicPr>
        <p:blipFill>
          <a:blip r:embed="rId1"/>
          <a:stretch/>
        </p:blipFill>
        <p:spPr>
          <a:xfrm>
            <a:off x="6400800" y="304920"/>
            <a:ext cx="2362320" cy="213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9"/>
          <p:cNvSpPr/>
          <p:nvPr/>
        </p:nvSpPr>
        <p:spPr>
          <a:xfrm>
            <a:off x="357120" y="4846680"/>
            <a:ext cx="86583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We go to the movi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Vamos al cin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AEC1-9D89-4FD3-9BB3-D27895E39F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1052"/>
          <p:cNvGrpSpPr/>
          <p:nvPr/>
        </p:nvGrpSpPr>
        <p:grpSpPr>
          <a:xfrm>
            <a:off x="1374480" y="1066680"/>
            <a:ext cx="6602760" cy="1206360"/>
            <a:chOff x="1374480" y="1066680"/>
            <a:chExt cx="6602760" cy="1206360"/>
          </a:xfrm>
        </p:grpSpPr>
        <p:sp>
          <p:nvSpPr>
            <p:cNvPr id="110" name="Text Box 1048"/>
            <p:cNvSpPr/>
            <p:nvPr/>
          </p:nvSpPr>
          <p:spPr>
            <a:xfrm>
              <a:off x="1374480" y="1066680"/>
              <a:ext cx="6602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: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 Box 1049"/>
            <p:cNvSpPr/>
            <p:nvPr/>
          </p:nvSpPr>
          <p:spPr>
            <a:xfrm>
              <a:off x="2058840" y="1752480"/>
              <a:ext cx="52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irregular in the present tens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Text Box 1050"/>
          <p:cNvSpPr/>
          <p:nvPr/>
        </p:nvSpPr>
        <p:spPr>
          <a:xfrm>
            <a:off x="1371600" y="2514600"/>
            <a:ext cx="4572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051"/>
          <p:cNvSpPr/>
          <p:nvPr/>
        </p:nvSpPr>
        <p:spPr>
          <a:xfrm>
            <a:off x="5791320" y="2514600"/>
            <a:ext cx="3276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2294-D9D5-4609-8C88-CB88F4769E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380880" y="152280"/>
            <a:ext cx="8610840" cy="1632960"/>
            <a:chOff x="380880" y="152280"/>
            <a:chExt cx="8610840" cy="1632960"/>
          </a:xfrm>
        </p:grpSpPr>
        <p:sp>
          <p:nvSpPr>
            <p:cNvPr id="116" name="Text Box 27"/>
            <p:cNvSpPr/>
            <p:nvPr/>
          </p:nvSpPr>
          <p:spPr>
            <a:xfrm>
              <a:off x="1324800" y="152280"/>
              <a:ext cx="645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380880" y="838080"/>
              <a:ext cx="861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he verb ir is generally followed by the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eposi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(or the contrac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)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Text Box 44"/>
          <p:cNvSpPr/>
          <p:nvPr/>
        </p:nvSpPr>
        <p:spPr>
          <a:xfrm>
            <a:off x="152280" y="2895480"/>
            <a:ext cx="3124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3200400" y="2900520"/>
            <a:ext cx="1371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9"/>
          <p:cNvSpPr/>
          <p:nvPr/>
        </p:nvSpPr>
        <p:spPr>
          <a:xfrm flipV="1">
            <a:off x="4267080" y="3883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0"/>
          <p:cNvSpPr/>
          <p:nvPr/>
        </p:nvSpPr>
        <p:spPr>
          <a:xfrm flipV="1">
            <a:off x="4952880" y="3349080"/>
            <a:ext cx="8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Comic Sans MS"/>
              </a:rPr>
              <a:t>a 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1"/>
          <p:cNvSpPr/>
          <p:nvPr/>
        </p:nvSpPr>
        <p:spPr>
          <a:xfrm flipV="1">
            <a:off x="6477120" y="4493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ar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2"/>
          <p:cNvSpPr/>
          <p:nvPr/>
        </p:nvSpPr>
        <p:spPr>
          <a:xfrm flipV="1">
            <a:off x="5791320" y="3807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3"/>
          <p:cNvSpPr/>
          <p:nvPr/>
        </p:nvSpPr>
        <p:spPr>
          <a:xfrm flipV="1">
            <a:off x="6324480" y="31982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 fies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640080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mascul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64771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femen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D268-1611-4B83-BDE6-F81128559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48"/>
          <p:cNvSpPr/>
          <p:nvPr/>
        </p:nvSpPr>
        <p:spPr>
          <a:xfrm>
            <a:off x="1295640" y="1004760"/>
            <a:ext cx="468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¿Adónde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vamos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49"/>
          <p:cNvSpPr/>
          <p:nvPr/>
        </p:nvSpPr>
        <p:spPr>
          <a:xfrm>
            <a:off x="2151000" y="388620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dónde + ir ?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055"/>
          <p:cNvSpPr/>
          <p:nvPr/>
        </p:nvSpPr>
        <p:spPr>
          <a:xfrm>
            <a:off x="1219320" y="2057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Adón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question-asking word that indica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 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056"/>
          <p:cNvSpPr/>
          <p:nvPr/>
        </p:nvSpPr>
        <p:spPr>
          <a:xfrm>
            <a:off x="1828800" y="4648320"/>
            <a:ext cx="5638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dónde + vamos mañan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To) Where are we going tomorrow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057"/>
          <p:cNvSpPr/>
          <p:nvPr/>
        </p:nvSpPr>
        <p:spPr>
          <a:xfrm>
            <a:off x="838080" y="56530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Mañana (nosotros) vamos a la fiesta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F754-2D36-4B45-AF45-3AF79ED63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1219320" y="216216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Adónde vamos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osotros vamos a la fiesta de cumpleaños de Pedr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828800" y="4267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Dónde está Pedro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edro está en la escuel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7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429000" y="579132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8"/>
          <p:cNvSpPr/>
          <p:nvPr/>
        </p:nvSpPr>
        <p:spPr>
          <a:xfrm>
            <a:off x="1295280" y="1066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A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 no es igual a 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2CE5-B51B-456D-8D3E-C825CDD5C3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55448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676520" y="2587680"/>
            <a:ext cx="5838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Yo voy al médico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hot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par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c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caf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hos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restaur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supermer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3276720" y="1828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el = 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C37-4E9C-483E-AE62-DCB4177F00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48"/>
          <p:cNvSpPr/>
          <p:nvPr/>
        </p:nvSpPr>
        <p:spPr>
          <a:xfrm>
            <a:off x="1723680" y="712800"/>
            <a:ext cx="626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n ustede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49"/>
          <p:cNvSpPr/>
          <p:nvPr/>
        </p:nvSpPr>
        <p:spPr>
          <a:xfrm>
            <a:off x="838080" y="278604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Nosotros vamos a la médica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bibliote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ciu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ofic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igl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librerí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pla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50"/>
          <p:cNvSpPr/>
          <p:nvPr/>
        </p:nvSpPr>
        <p:spPr>
          <a:xfrm>
            <a:off x="297180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la = a  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2A69-4708-4429-AAAD-07CCA4B2F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40220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2900160" y="286380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l ban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2" descr="c:\Program Files\Microsoft Office\Clipart\standard\stddir2\bs00750_.wmf"/>
          <p:cNvPicPr/>
          <p:nvPr/>
        </p:nvPicPr>
        <p:blipFill>
          <a:blip r:embed="rId1"/>
          <a:stretch/>
        </p:blipFill>
        <p:spPr>
          <a:xfrm>
            <a:off x="2660760" y="3889440"/>
            <a:ext cx="3816360" cy="2816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3"/>
          <p:cNvSpPr/>
          <p:nvPr/>
        </p:nvSpPr>
        <p:spPr>
          <a:xfrm>
            <a:off x="2260800" y="205740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ban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Bolivar Vivanco</dc:creator>
  <dc:description/>
  <dc:language>en-US</dc:language>
  <cp:lastModifiedBy>Medina, Maria Mercedes</cp:lastModifiedBy>
  <dcterms:modified xsi:type="dcterms:W3CDTF">2010-09-28T18:04:13Z</dcterms:modified>
  <cp:revision>73</cp:revision>
  <dc:subject/>
  <dc:title>PowerPoint Presentation</dc:title>
</cp:coreProperties>
</file>